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је фармације</a:t>
            </a: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едмет: Енглески јези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едавач: Душица Лазић</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rds can be derived from the following:</a:t>
            </a:r>
            <a:endParaRPr b="0" lang="en-US" sz="28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the right word for each pair of words:</a:t>
            </a:r>
            <a:endParaRPr b="0" lang="en-US" sz="2800" spc="-1" strike="noStrike">
              <a:solidFill>
                <a:srgbClr val="000000"/>
              </a:solidFill>
              <a:latin typeface="Arial"/>
            </a:endParaRPr>
          </a:p>
        </p:txBody>
      </p:sp>
      <p:sp>
        <p:nvSpPr>
          <p:cNvPr id="60" name=""/>
          <p:cNvSpPr txBox="1"/>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onical or chronic depress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ent or transitory pa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or transmit disea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tamin deficiency or lac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e or strong mental disor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or humane genet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ines</a:t>
            </a:r>
            <a:endParaRPr b="0" lang="en-US" sz="28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cines (drugs, medicaments) are substances or preparations used in treating diseases. Medicines are described and classified in many ways: scientists and pharmacologists are interested in their chemical structure, doctors are concerned with their use, manufacturers and advertisers promote the benefits of the drugs, and governments regulate their legal status. Most drugs in current use have been developed in laboratories and are manufactured through different chemical processes. Many drugs are synthetic forms of naturally occurring substances and chemical copies indistinguishable from the original………</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st of the lesson may be found in the textbook “English Language in Pharmacy Practice” by Leontina Kernica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s to remember:</a:t>
            </a:r>
            <a:endParaRPr b="0" lang="en-US" sz="28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er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the-cou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int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i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s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xilia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s to remember:</a:t>
            </a:r>
            <a:endParaRPr b="0" lang="en-US" sz="28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hylact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rvesc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xi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c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pens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acutaneo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oderm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co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im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s to remember:</a:t>
            </a:r>
            <a:endParaRPr b="0" lang="en-US" sz="2800" spc="-1" strike="noStrike">
              <a:solidFill>
                <a:srgbClr val="000000"/>
              </a:solidFill>
              <a:latin typeface="Arial"/>
            </a:endParaRPr>
          </a:p>
        </p:txBody>
      </p:sp>
      <p:sp>
        <p:nvSpPr>
          <p:cNvPr id="48" name=""/>
          <p:cNvSpPr txBox="1"/>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un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cua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ol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n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ing points:</a:t>
            </a:r>
            <a:endParaRPr b="0" lang="en-US" sz="2800" spc="-1" strike="noStrike">
              <a:solidFill>
                <a:srgbClr val="000000"/>
              </a:solidFill>
              <a:latin typeface="Arial"/>
            </a:endParaRPr>
          </a:p>
        </p:txBody>
      </p:sp>
      <p:sp>
        <p:nvSpPr>
          <p:cNvPr id="50" name=""/>
          <p:cNvSpPr txBox="1"/>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fication of medicin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ortance of healing for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anical drug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of administering dru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prefixes im-, un-, in-, and dis- to form words opposite to:</a:t>
            </a:r>
            <a:endParaRPr b="0" lang="en-US" sz="2800" spc="-1" strike="noStrike">
              <a:solidFill>
                <a:srgbClr val="000000"/>
              </a:solidFill>
              <a:latin typeface="Arial"/>
            </a:endParaRPr>
          </a:p>
        </p:txBody>
      </p:sp>
      <p:sp>
        <p:nvSpPr>
          <p:cNvPr id="52" name=""/>
          <p:cNvSpPr txBox="1"/>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cess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equat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the verbs in brackets into the correct tense:</a:t>
            </a:r>
            <a:endParaRPr b="0" lang="en-US" sz="28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tudent (give up) smoking recently.</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she (work) when she (leave) that faculty?</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ientists (consider) new results of genetic engineering now.</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herapy (show) promise in treating some diseas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 patient (try) to explain his symptoms, the pharmacist (listen) to him attentively.</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weeks ago, many practitioners (take) part in this important congres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octor (tell) her the news, she (go) home satis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the verbs in brackets into the correct tense:</a:t>
            </a:r>
            <a:endParaRPr b="0" lang="en-US" sz="28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prepare) their exercises at a quarter to nine yester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physician always (use) different techniques while working on some assignm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teacher was sure that he (give) the right ad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tart) negotiations as soon as that pharmaceutical company (offer) a better de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fessor (write) on the blackboard when the students (come) i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3-06T13:01:27Z</dcterms:modified>
  <cp:revision>28</cp:revision>
  <dc:subject/>
  <dc:title>Slide 1</dc:title>
</cp:coreProperties>
</file>